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324-6267-4DEF-AF8A-27EDF8A5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008-B992-4CE8-9461-901EE03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235B3-90F6-484C-82A8-DE2ADBE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7988F-15A9-4220-8CE3-2C08D8D0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E43EA-A4D6-4F04-AE94-0B42901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CAB85-88C3-48A4-BB9B-B9D70A5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0D783-5D27-43A4-AB9E-7BEF7206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D73D8-BE97-44B1-88BD-4118B2C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AE743-485E-4584-ACE5-2294D7A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672C1-9649-4060-9A82-9B511677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9D3D0-F9FC-405F-8269-EDE750CC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A2518-B2CA-482D-B3D4-6E36DBE9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D2-CC98-45C8-99E9-4A7570D3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4EA15-28C2-4D71-9D06-3911600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4CE55-EEB2-4B86-AE57-60CEAC7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A60EB-C984-4EC7-99DD-A8C4CF1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345C1-267B-40E5-B7D1-1DEC3E6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6FCC7-0F34-45FF-80EC-45D1BE62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EE0D4-DF28-47C4-8DFB-31FE6DC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F8B3E-9449-4705-854B-4CFD82B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37C7A-EA01-44CA-9CDB-66C2896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58E59-FD7D-4AC8-B426-11D9F92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0FC7F-6DF5-4B46-BCE7-45CCD9B1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20E-8388-4A7E-A759-2A638BE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0D0CE-42B9-48FE-83D0-93E5BF81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CF5F7-43CC-4D15-8A4E-0982A96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4554E-49BA-439B-804D-BF68DE58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5093-DD6F-4AD2-97BD-B6C3E70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B0C5-4930-4E7B-8C3F-AAA8318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C4D2-86A0-4270-888A-8A85569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D2379-EDCE-4260-816C-421753F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227A-D14F-409B-92B4-CE25F45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0BF7-89A4-4F25-84E9-3847CF8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3C03A-F898-4AFF-A048-FB89C7E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664-CC1E-43C6-BF21-D199394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C4D63-E40C-425D-A7FE-DF1460AA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5C16B-2454-4F0E-A7EB-A27FF21A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BA87D-E5FD-4FE7-A458-232DCBAC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824B1-0B6B-4DA4-8924-0D1DB966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B4812-0D2D-45AA-8C53-C0A25E2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77C81-444F-4337-9EF1-91F14996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04757-A27E-4047-A865-3D2A19D7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A6C83-690B-482D-AD5D-11BD2BE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9D80A-C605-4391-AB48-D560833F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D2D61-C907-4383-89CD-6DB90C3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685-6149-4C3C-ABBC-8D2ADE8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8A159-B2C0-416D-BBC8-E05D4C2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30D10-AA84-4A33-92AF-BF449D2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F10E5-FB8D-46E9-9947-1208423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41DC4-6597-4A6E-BAB2-FE4BE0AB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224D9-0B04-4D1D-B0AB-F7293C57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76A-BB96-494B-9A00-26B85E9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C20-F70B-4AA4-B1B4-02DDFB2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386-1742-4182-AF97-0FCD214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9DE0-193B-43BE-81EB-2FDEAE13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B4F-DB49-4FE9-8A55-F11EFDF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A50-0994-4454-BEC1-75AB4AE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EF29-F1A2-41DE-9427-386ED9E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1E6B-6DA1-4305-B278-5082A8A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2E0-D121-4F30-B43F-0078299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9604-A0A4-41BC-9029-58A942CE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C3E7-2C4D-417D-BB77-61E9DEB3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3BF0-5EA4-416F-A917-58603C5D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42F2-22D0-4C9B-947D-E837A903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CBD5-2F8F-4B12-A975-4EA849B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CC83-57CD-4457-96CF-B740699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5F5D-272D-4BC7-931D-6992728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763-5878-406D-A4D6-69FB64C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ADEA-8BDC-4675-8D57-19F5AF3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301A-AE72-4C9A-B24A-94FCBF3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B6A2-5F37-454B-91B0-E72F021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E00B-428C-46BC-9362-99837E0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1714-FC8F-4166-834B-DFB1DE2B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4ED7-6363-4B25-8B1D-145C40AD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5A09-E96A-4E76-90BC-0069EAFF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0687-9039-40E2-B3AC-93B54FA5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45AE-F97B-430C-BD50-14DDEA77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D2D7-D059-4ABE-95B4-E7A486A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C24-C447-4B0D-BD0E-4C8D1FB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E516-47B9-4C2E-8764-40EB7D9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80C2-F88A-46D4-B3D2-65F6B8E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38D5-271E-43FE-9942-62FB710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9483-A7FF-4028-A595-F265E3C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1354-C985-4847-A914-6059EA4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B428-A410-4552-8DE2-4C1EE13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69F1-DFA5-446E-8351-B5F5F47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8DB1-0D62-4157-963C-2F585053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E53B-7647-4A4C-B891-AB2F7B0A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2643-C08E-48DF-9D6B-917DD4B9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F2D-5D90-42C0-9AFB-B7DBD3F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ECEA-E0E8-4F93-A502-9C3F64FD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B0AE-EA83-4191-BCE4-7DD45DC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334D-90E2-4159-B8B3-4CFA804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27E8-5A29-4A6A-BD24-FD40DDE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4645-1CDF-473E-A33F-52B320E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4A26-BF7F-4C16-88B1-9733574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71E33-EDF0-40F5-94A9-3712C00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333A-C8EE-4CAC-B7DB-CC55133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ABEF-30A1-4C2E-BC64-5572E85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191A-565A-4D9D-B743-287F31F7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BB1-78B7-43EE-885B-80574C0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890A-2EDC-477E-943B-D8C5FA3A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0D4D1-04AA-4018-938C-2B4ACBB4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703BE-580D-49BD-BD13-776A9B2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D002-FB62-45CA-B3A5-C3A07793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CEBB-7A9B-4713-9269-0EDBA948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515E-38C6-43AB-A164-FDB49C5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B9CC0-FDA9-4984-B45C-7136BE08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ADBB-6A36-43CC-B44A-347D7F53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0BD1-8E37-4019-94E2-8C30BCB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26DF-83C5-4773-91AF-CB896E0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078-70B1-4B0B-A4F3-D1D35BF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DEF3-0C14-4891-A668-5CD7799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C892-02DA-4959-812A-711371C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2AB03-8E0C-4D93-A0D1-26172AB9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CD2F-7495-49EE-ACCD-6D873118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2908-8575-4958-9B18-2DF165CE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F38D-898E-401E-B5BE-15AC1EE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8D7B-F4FB-4818-8E08-75CCFBE3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A566E-0D09-4EAC-8DCA-3379C78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881C-8A55-4CFD-8D56-4DF7B96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AC98-9B23-4E7F-BE64-5758274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E63-FF91-4E2C-BE0B-1A80C5C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DACC-5DE3-4132-B126-DF4624A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FA56-4363-4544-B76C-48AE1F8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CDB06-1348-4940-A085-E5582DE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081C-01F1-4FF1-A15B-EC2F0715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783E9-2A8E-4FDB-B79F-C87BC2F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191A-8563-4C19-ADF9-F532E159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9133-4529-463C-A3A4-B8FD382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D1004-5F89-4433-8DA9-19434A6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4954-1AB4-4392-95C4-0211072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03E8-6E48-476C-84AB-E4B90F8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F44-3575-420E-94DC-688728D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A0B1-2837-4D1A-9D5B-B1B02055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51A8-42FE-4441-99DA-D1915DB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39B4-7308-4A7D-B3C1-328C982D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0AAB-FAFD-4423-9221-981BC83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FB74-DE06-4951-9E71-9EDB200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C7AF-65F5-482E-8306-A3E1FFF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76696-DEDC-4141-8AE5-FB421110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65F16-D186-4C70-9D79-61EE2A79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A3544-E197-46D9-BCF8-135D7F0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AED82-8EEA-40F1-A278-3D72CC62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3FCC-2660-493D-BDA8-BDBDBF92B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E73-464B-4856-917D-27BB295BF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FD3-7664-44B0-B237-CA2CB8C92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BC1-AEDD-4A60-875D-3AC0E20C5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841-C13B-442C-845E-5E3383770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A64-00CE-4157-A6D0-29B970D18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DE8-B080-486D-B090-F0BB985BB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961-1976-409E-B8C2-5E9A62C7A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39F-4689-4881-A062-79894D23F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EA8-E3D3-4344-9482-AB739D3F3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6B3-9AB1-4041-8485-A14E826955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25B-65AB-44AC-92D2-356F0B98A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d.com/talks/view/id/66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PRESENTED BY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JENNY S., ROBBIE B., SARAH S., ALYSSA Z. STEPH V., MARIKA M., WILL B., JACKSON G., NORA L.</a:t>
            </a: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reativity for the Future: Based Off Video By Sir Ken Robins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re programs in school that emphasize discussion, such as the Acade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ss stress on grades and more on lear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qual weight on all subjects, including core academic classes, music, art, dance, and thea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ide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ted.com/talks/view/id/6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peaker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r Ken Robinson has authored many books concerning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ighted for his contribution toward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98- Chaired National Advisory Committee on Creative and Cultural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otes/Anecdo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creativity is as important as literacy and should treat it with same statu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3:2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if you're not prepared to be wrong, you will never come up with anything original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6:0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educating people OUT of our capacitie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6:3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ccaso Quote: “All men are born artists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ssues Presented by Vide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ucation undermines creative proce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hools fail to recognize talents of brilliant peo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focusing on core subjects, ability to think creatively and effectively de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s with Today’s Socie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ers grading students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termining the level of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to improve one’s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ition vs. Modern thi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gnifica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ortance of a new generation with the ability to think “out of the box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ople need more creativity to become successful instead of general knowle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blem solving capabil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ividuals become more open-min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enbrook Academ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ss busy work and memorization allows for enriching creative though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courage comprehensive thinking and discussions that will benefit later in busin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thinking tools that cannot be replaced by cheap labor or robo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earch Clai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niel Pink- Believes in order to become successful in the coming years, one needs the ability to use both the left and right side brai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gnized the emergence of displacing manual labor and the indispensible nature of jobs that promote creative left brained thi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52:08Z</dcterms:created>
  <dc:creator>Brydon</dc:creator>
  <dc:description/>
  <dc:language>en-US</dc:language>
  <cp:lastModifiedBy>Brydon</cp:lastModifiedBy>
  <dcterms:modified xsi:type="dcterms:W3CDTF">2008-03-10T00:46:46Z</dcterms:modified>
  <cp:revision>18</cp:revision>
  <dc:subject/>
  <dc:title>Creativity for the Future</dc:title>
</cp:coreProperties>
</file>